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5ED84-4F41-4596-B25B-F5D4C1CAE9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5ABF8-F8DF-4A06-8753-372EA40735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55CF4-06FC-47DB-908C-A334383C86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62373-A98C-424F-89CF-5B4CE09A2A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8D1EE-320C-4C21-B8EC-E7554F8A93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6B719-8C8C-496D-BFC6-7758FACE9B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AF056-6CF2-4F71-849A-E0748F8837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ommand cre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98511-8E86-4015-966E-798E5B3C8C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87CC9-6C05-4477-AB2D-186AD3E50E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C21FE-8D81-44FE-BEBA-33261F2F2E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406CE-44C9-4524-A629-11D022F37E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CEF62-54EE-4658-B9A9-D85D4B2031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its for wh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lose file descrip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DA5B-C10C-486A-9169-15D22A402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5A32-9611-42A2-91B1-AB82AFB80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DFD6-2B72-4B9C-9BD6-25B33713D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46DA-A4A2-4912-853F-9AD118B60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3DEF-1642-4EAA-97AE-C234983A9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1B56-2EED-47AB-A926-8A4DBF737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A832-CE72-4BEB-9088-A0F88B648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DD86-BD5D-44FD-9D92-8A305526F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BB3E-AD99-446F-9518-DCEE8EFB0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C628-D63D-4D88-B6F6-1971E763F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41D1-CAF7-4B30-AA00-2347E9354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88FC-637A-4F6E-A66A-AC4E2F722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9FE04-BB5A-4CC7-A1DA-8745EC7A18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/25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 and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es (fork &amp; exec &amp; wa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s (open, create, read, write, clo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descriptor (dup, 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(pip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a number of OS ide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ion betwee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on/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our job: implement abstractions and understand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ill you know at the e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OS abstractions in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l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C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 programming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x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e with building system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 complexity, concurrency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e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a code-based OS cla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ng systems can be misleadingly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 simple abstractions, easily understandable in iso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ity is in how their implementations 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by doing, focus on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hardware interrupts interact with kernel and user-level proces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use locks to coordinate different activi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lecture: OS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ustrated by an shell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: sh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command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 (“the shell”) to the operat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shell comma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create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write output to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h &lt; script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sh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ort tmp | uniq | w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process communicate with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i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compute-pi &am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program in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0" y="6095880"/>
            <a:ext cx="92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idea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o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munication, 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ll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“$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command(command, arg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d = fork();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new process;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pid == 0) {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chi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 (command, args, 0);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un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if (pid &gt; 0) {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par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wait (0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wait until child is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ror(“Failed to fork\n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put/Output (I/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 through file descri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descriptor may be for a file, terminal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call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: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: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: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 inherits open file descriptors from 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5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/O redir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“ls &gt; tmp1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 sh to insert before exe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(1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lease f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d = create(“tmp1”, 0666);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fd will b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odifications to “ls”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” could be writing to file, terminal, etc., but programmer of “ls” doesn’t need to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: one-way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(fdarray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turns 2 fd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array[1], “hello”, 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array[0]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 contains ‘h’, ‘e’, ‘l’, ‘l’, ‘o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 between parent &amp; ch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n, pi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pe(fdarra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d = for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(pid &gt; 0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(fdarray[1], "hello", 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read(fdarray[0], buf, sizeof(buf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ynchroniz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parent and ch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blocks until there i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shell implement “a | b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ing shell pip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darray[2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i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darray) &lt; 0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n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"error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(pid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)) == 0) {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hild (lef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1] is the write end, tmp will b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read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fdarray[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1, args1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id &gt; 0) {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parent (righ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0] is the read end, tmp will be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write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2, args2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f ("Unable to fork\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9-03T12:27:11Z</dcterms:modified>
  <cp:revision>69</cp:revision>
  <dc:subject/>
  <dc:title>Labs</dc:title>
</cp:coreProperties>
</file>